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5E43-B8EC-4A88-80D8-1D9D3A2D7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9280" y="4055400"/>
            <a:ext cx="8785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1E42-317E-45A2-99F3-1E2BFE83C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440" y="40554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6A43-024B-4BA1-B51C-5F4A4BBB3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4964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000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928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4964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000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CF38-4D0E-428C-AD91-B846BB5C0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7D2A-B3E8-4E8E-923E-58160A3F2A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AE5BA-ACB2-4269-BE46-B5EF7D4352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632D6-4BA8-46D5-A499-783181637B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9ABE9-4939-4D43-8F14-5893BDD5E7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CA7FC-DEC7-4F64-A96D-9BB3C3CFE4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920" y="188640"/>
            <a:ext cx="89647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2B5B-5D7A-4AA9-A9BD-BB7D366E4E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E1D2-3E8C-4209-8F9E-23EA02B8BC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CA0B-CFB1-4619-B86A-06C8BE4C8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440" y="40554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41EF-23D5-4C24-9B62-BF8ACE805A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8785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BB9B-2C6F-4B60-B922-0E70DD16E7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9280" y="4055400"/>
            <a:ext cx="8785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721C6-35A5-4A81-98FE-4FD60A7189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440" y="40554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3336-9376-42B6-84E0-BC3EC58ACA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4964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0000" y="11970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928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4964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20000" y="4055400"/>
            <a:ext cx="2828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D72A0-060C-4218-801C-433A83B895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F75D-22BF-4D3B-9F2C-8A910AE9E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60D3-E2B0-4CEE-A2B2-3A66B8A6E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111E-5DD4-452A-9C81-43037554B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920" y="188640"/>
            <a:ext cx="89647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9E43-B160-4BB8-ADC4-A05A71243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7A81-B05B-4DF4-ABF9-D6A9A104C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440" y="40554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735A-9989-45A7-B4E5-CDBAEB364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197000"/>
            <a:ext cx="42872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8785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2262-A4FF-4A80-AF45-4DD986C9D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Click to edit the title text format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e6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e6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84720" y="6244920"/>
            <a:ext cx="801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A47D-1E34-4401-B199-B68F2BA259B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Click to edit the title text format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0280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C08D-66BF-4F48-AAE4-0ECD2658032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e63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e63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Is Secondary Economic Activity different in LEDCs?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5120-C1F5-4E55-9657-C04AA425B2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Water collection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360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This treadle pump is an example of an </a:t>
            </a:r>
            <a:r>
              <a:rPr b="1" lang="en-US" sz="2800" spc="-1" strike="noStrike">
                <a:solidFill>
                  <a:srgbClr val="ed181e"/>
                </a:solidFill>
                <a:latin typeface="Arial"/>
              </a:rPr>
              <a:t>intermediate</a:t>
            </a: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 technology solution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Low cost, small scale, and very useful. 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It was designed and constructed by an NGO. 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It allows one person to collect enough water in a couple hours work to irrigate fields for several days. 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5111640" cy="402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6414-6794-484A-A76E-60E6CC879C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Ideas on Intermediate Technology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People may view intermediate technologies as transitional, on the way to industrial solutions. In other words, intermediate technologies would not an end in themselves but a means to the industrial end.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why transition into Industrial can be a good thing?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Maybe the big brick factories can make lots more bricks at lower overall cost, which in turn can create more/better housing.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673D-D0FE-4885-B8B6-9CED78A9E4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Ideas on Intermediate Technology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But why might it be good to consider an Intermediate Technology to be a worthy end in itself?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Matches local skill levels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Matches rural demand and cost structures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Creates more jobs than industrial solutions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Producing locally  is more sustainable  and is often a better match for size and portability needs of developing countries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Doesn’t fuel rural-to-urban migration, which is a pitfall of the large scale of industrial technologies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Because Intermediate Technology is a smaller step from the base indigenous technology, it allows other aspects of infrastructure (roads, distribution, raw material resources) to evolve together in proportion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The lower cost of Intermediate Technology allows more people to step readily into the entrepreneur/ownership role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508E-87B0-40A3-B1A8-536CEE337B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Ideas have moved on a bit since then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We tend more to talk about appropriate technology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It is similar in many ways, but takes more account of the place in which it is practiced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8723-9D1C-445E-A96E-DC7702D4C2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What are appropriate technologies?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low in capitol costs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buClr>
                <a:srgbClr val="ffe638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uses local materials as much as possible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buClr>
                <a:srgbClr val="ffe638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creates jobs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buClr>
                <a:srgbClr val="ffe638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small scale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ffe638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can be understood, maintained and repaired locally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ffe638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uses decentralized, renewable energy sources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ffe638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Sustainable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ffe638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638"/>
                </a:solidFill>
                <a:latin typeface="Arial"/>
              </a:rPr>
              <a:t>Culturally acceptable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ffe638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638"/>
                </a:solidFill>
                <a:latin typeface="Arial"/>
              </a:rPr>
              <a:t>Durability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7A7A-3815-42A3-9AFC-50F80460DF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The Pot-in-Pot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386064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In this AT solution for food storage and preservation, the water between a nested pair of clay pots evaporates, refrigerating the interior of the inner po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1695600" cy="3057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68360" y="1052640"/>
            <a:ext cx="4353120" cy="279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164360" y="256536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0D1C-3D52-4DC6-974D-739512A45E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Whirlwind Wheelchairs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4581000"/>
            <a:ext cx="8785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These chairs are locally produced, sometimes by users themselves, and use locally available parts and materials, e.g. from bicycles and ceiling fans. 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2171520" cy="312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297180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EB5A-423E-497F-B180-2C3D810FEC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5113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Light Up the World: Solid State Lights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590544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638"/>
                </a:solidFill>
                <a:latin typeface="Arial"/>
              </a:rPr>
              <a:t>The NGO </a:t>
            </a:r>
            <a:r>
              <a:rPr b="0" i="1" lang="en-GB" sz="2800" spc="-1" strike="noStrike">
                <a:solidFill>
                  <a:srgbClr val="ffe638"/>
                </a:solidFill>
                <a:latin typeface="Arial"/>
              </a:rPr>
              <a:t>Light Up The World </a:t>
            </a:r>
            <a:r>
              <a:rPr b="0" lang="en-GB" sz="2800" spc="-1" strike="noStrike">
                <a:solidFill>
                  <a:srgbClr val="ffe638"/>
                </a:solidFill>
                <a:latin typeface="Arial"/>
              </a:rPr>
              <a:t>has developed an AT lighting solution using very low power full-spectrum LEDs paired with solar or other appropriate power sources. Parts are shipped into each country for local assembly. They also provide local repair.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27640" y="1557360"/>
            <a:ext cx="2438640" cy="1841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227640" y="4508640"/>
            <a:ext cx="2514600" cy="1860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547640" y="4724280"/>
            <a:ext cx="3048120" cy="17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48A7-3DC2-4327-9A27-D59B06B10C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64000" y="4221000"/>
            <a:ext cx="3435480" cy="2379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Grameen Phone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60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This cell phone company uses micro-finance to bring service to rural Bangladesh, through village-level ownership of infrastructure.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Howard Guy invested 10 - 12 years of effort to get this service off the ground.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899160" cy="27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C6A6-ACC9-42F7-86BF-EDBC5E05CD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Here is an example of intermediate technology becoming more appropriate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500E6-D10C-4DDF-9839-903DB09AFC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What is it like?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Where you have TNC like Coco-cola, the factories are no different from anywhere else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But as we saw, LEDCs do not have much secondary economic activity.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A lot of what they need is still produced by hand with very few machines – if any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But they have many needs, such as equipment for pumping and cleaning water, for example.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7417-B881-4CED-838E-D71E729439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af18"/>
                </a:solidFill>
                <a:latin typeface="Papyrus"/>
              </a:rPr>
              <a:t>Fuel from the Fields Project (Charcoal Briquettes) – Haiti</a:t>
            </a:r>
            <a:r>
              <a:rPr b="1" lang="en-US" sz="3200" spc="-1" strike="noStrike">
                <a:solidFill>
                  <a:srgbClr val="ffaf18"/>
                </a:solidFill>
                <a:latin typeface="Papyrus"/>
              </a:rPr>
              <a:t> </a:t>
            </a:r>
            <a:endParaRPr b="1" lang="en-US" sz="32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597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The charcoal briquettes project began in Haiti, evolved out of student interest in addressing trash disposal.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Haiti is 98% deforested.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Charcoal is the primary cooking fuel. In the traditional charcoal-making process, you set fire to a pile of wood and then bury it to restrict the oxygen, thus slowing the burn.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Charcoal is sold in large bags.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12000" y="1052640"/>
            <a:ext cx="2952720" cy="196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00720" y="3068640"/>
            <a:ext cx="2556000" cy="1687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300720" y="4797360"/>
            <a:ext cx="2448000" cy="18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E572-739A-4632-BA11-46E2F56CDE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f18"/>
                </a:solidFill>
                <a:latin typeface="Papyrus"/>
              </a:rPr>
              <a:t>The Original Project – Briquettes from Waste Paper</a:t>
            </a:r>
            <a:endParaRPr b="1" lang="en-US" sz="32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640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The briquette starts with paper pulp.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A hydraulic press made from a car jack compresses the pulp into a small disk.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3384720" cy="2536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932360" y="4005360"/>
            <a:ext cx="309564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F57A-4276-4E4B-ADF4-FAD0CA90EB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43280" y="259920"/>
            <a:ext cx="43164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After the initial test, the D-Lab team made some improvements to the press to make it easier to use and more productive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181e"/>
                </a:solidFill>
                <a:latin typeface="Arial"/>
              </a:rPr>
              <a:t>HOWEVER</a:t>
            </a: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 – the improved press didn’t address a more fundamental problem:– the briquettes didn’t burn easily and required training to use properly!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2521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-169560"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Original Design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$100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Requires 3 people to operate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  <a:p>
            <a:pPr marL="169560" indent="-169560"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Improvements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Bracing makes press safer and easier to use 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Improved process to eject briquettes 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8"/>
                </a:solidFill>
                <a:latin typeface="Arial"/>
              </a:rPr>
              <a:t>Throughput increased to 2 briquettes/minute </a:t>
            </a: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  <a:p>
            <a:pPr marL="169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1984320" cy="38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5967-5DAA-44FF-BEFB-0EE3C17D09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f18"/>
                </a:solidFill>
                <a:latin typeface="Papyrus"/>
              </a:rPr>
              <a:t>Search for Better Fuel: Sugar Cane Waste</a:t>
            </a:r>
            <a:endParaRPr b="1" lang="en-US" sz="32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The team looked for other fuel sources, and came upon waste sugar cane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After sugar is extracted from the sugar cane, farmers are left with huge piles of waste sugar cane stalks. 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Traditionally the waste has been burned, simply to dispose of it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The team brought sample of cane back to the lab for tests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One of the issues was how to form the cane into a shaped, compressed briquette. 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It was found that  that a sticky cassava porridge binds well to the sugar cane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The sugar cane briquettes seemed easier to use (and thus more Appropriate) than paper-based briquettes and they burned well.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8593-0C73-4137-B793-A0A86252E4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f18"/>
                </a:solidFill>
                <a:latin typeface="Papyrus"/>
              </a:rPr>
              <a:t>But this would only be appropriate where there was sugarcane waste</a:t>
            </a:r>
            <a:endParaRPr b="1" lang="en-US" sz="32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Sugar cane can only be a solution where sugar cane grows. 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In India, other locally available materials like cow dung are the cooking fuel of choice. 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Cow dung is “very smoky,” so another D-Lab project in 2003 looked at combining some less-smoky material (i.e. rice straw or wheat straw) with a cow dung “binder.” 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16B0-955F-498B-96F8-10C1E612D8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1600" y="125280"/>
            <a:ext cx="8763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Guiding Principles for D-Lab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560" y="19807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Identify functional requirements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Encourage participatory development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Value indigenous knowledge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Promote local innovation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Strive for sustainability 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5647-043A-4EEF-85A8-D562F904CA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What is it like?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To start off with, NGO’s like OXFAM and CATHOD went in when there was a famine or floods or some other natural disaster and provided food and shelter in an emergency.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But as time went on, they realized that these people needed long term solutions to problems like fresh water, building materials and cooking and food processing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The solutions needed to be local, cheap and sustainable.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B2F4-EA45-44F1-92D9-43B2925C26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Out of these Needs came New Ideas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Some called these new ideas ‘Intermediate Technology’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The idea was that currently there was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Indigenous technology – meaning locally created, mostly carried out by hand, very slow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Or there could be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Industrial technology – western ideas – large, expensive and highly mechanised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638"/>
                </a:solidFill>
                <a:latin typeface="Arial"/>
              </a:rPr>
              <a:t>But there maybe there could be Intermediate that fitted in the middle</a:t>
            </a:r>
            <a:endParaRPr b="0" lang="en-US" sz="3200" spc="-1" strike="noStrike">
              <a:solidFill>
                <a:srgbClr val="ffe6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A7B6-3757-47F7-ADC1-71AF823E57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Grain Milling, for example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5113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638"/>
                </a:solidFill>
                <a:latin typeface="Arial"/>
              </a:rPr>
              <a:t>With the </a:t>
            </a:r>
            <a:r>
              <a:rPr b="1" lang="en-GB" sz="2800" spc="-1" strike="noStrike">
                <a:solidFill>
                  <a:srgbClr val="ed181e"/>
                </a:solidFill>
                <a:latin typeface="Arial"/>
              </a:rPr>
              <a:t>indigenous</a:t>
            </a:r>
            <a:r>
              <a:rPr b="0" lang="en-GB" sz="2800" spc="-1" strike="noStrike">
                <a:solidFill>
                  <a:srgbClr val="ffe638"/>
                </a:solidFill>
                <a:latin typeface="Arial"/>
              </a:rPr>
              <a:t> grain processing techniques found in many African cultures, women may spend many hours every day pounding grains by hand.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Takes about 1 - 3 hours every day to  grind grain for their families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Costs less than $5 for equipment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2933640" cy="441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DB0C-15A9-4863-9CD7-FDEDE31DEB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Grain Milling, for example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82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638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ed181e"/>
                </a:solidFill>
                <a:latin typeface="Arial"/>
              </a:rPr>
              <a:t>industrial</a:t>
            </a:r>
            <a:r>
              <a:rPr b="0" lang="en-GB" sz="2800" spc="-1" strike="noStrike">
                <a:solidFill>
                  <a:srgbClr val="ffe638"/>
                </a:solidFill>
                <a:latin typeface="Arial"/>
              </a:rPr>
              <a:t> solution is a conventional commercial grain mill, which can grind this much grain in a few seconds.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Takes about 10 seconds to grind the grain for a family for one day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Costs abut $8,000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Far too expensive and too efficient for a village to share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809880" cy="338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C53A-7727-4A10-B5E6-37BE529763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Grain Milling, for example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5256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ed181e"/>
                </a:solidFill>
                <a:latin typeface="Arial"/>
              </a:rPr>
              <a:t>intermediate</a:t>
            </a: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 technology solution for grain milling is a small mill operated by a local entrepreneur or co-op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This is an Amy Smith’s hammer mill.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It’s nearly as fast as the industrial solution, grinding a day’s worth of grain in about 1 - 3 minutes for a family for one day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Costs abut $500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295740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C7F4-B2A5-4B82-92BC-EAA91ADABD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Water collection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24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In many regions the </a:t>
            </a:r>
            <a:r>
              <a:rPr b="1" lang="en-US" sz="2400" spc="-1" strike="noStrike">
                <a:solidFill>
                  <a:srgbClr val="ed181e"/>
                </a:solidFill>
                <a:latin typeface="Arial"/>
              </a:rPr>
              <a:t>indigenous </a:t>
            </a: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for water collection requires women to carry jugs of water many hundreds of meters to several kilometres. 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8"/>
                </a:solidFill>
                <a:latin typeface="Arial"/>
              </a:rPr>
              <a:t>Obviously the time and effort required is a drain on other things they might be doing. </a:t>
            </a:r>
            <a:endParaRPr b="0" lang="en-US" sz="24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64000" y="981000"/>
            <a:ext cx="5195880" cy="344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62EC-2516-4EB2-A000-E5994D161C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754f"/>
            </a:gs>
            <a:gs pos="100000">
              <a:srgbClr val="18605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f18"/>
                </a:solidFill>
                <a:latin typeface="Papyrus"/>
              </a:rPr>
              <a:t>Water collection</a:t>
            </a:r>
            <a:endParaRPr b="1" lang="en-US" sz="3600" spc="-1" strike="noStrike">
              <a:solidFill>
                <a:srgbClr val="ffaf18"/>
              </a:solidFill>
              <a:latin typeface="Papyru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313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ed181e"/>
                </a:solidFill>
                <a:latin typeface="Arial"/>
              </a:rPr>
              <a:t>industrial</a:t>
            </a: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 solution for water collection is classic “big development.”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6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38"/>
                </a:solidFill>
                <a:latin typeface="Arial"/>
              </a:rPr>
              <a:t>Dams and associated infrastructure cost many millions of dollars, and operate on a scale that may create other environmental or social issues. </a:t>
            </a:r>
            <a:endParaRPr b="0" lang="en-US" sz="2800" spc="-1" strike="noStrike">
              <a:solidFill>
                <a:srgbClr val="ffe63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92360" y="981000"/>
            <a:ext cx="5332680" cy="372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C356-93B3-480D-8AB6-CA0F1A9FDF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6:23:26Z</dcterms:created>
  <dc:creator>Lindy</dc:creator>
  <dc:description/>
  <dc:language>en-US</dc:language>
  <cp:lastModifiedBy>Lindy</cp:lastModifiedBy>
  <cp:lastPrinted>2003-09-03T16:46:25Z</cp:lastPrinted>
  <dcterms:modified xsi:type="dcterms:W3CDTF">2009-03-23T11:35:26Z</dcterms:modified>
  <cp:revision>13</cp:revision>
  <dc:subject/>
  <dc:title>Is Secondary Economic Activity different in LEDCs?</dc:title>
</cp:coreProperties>
</file>